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9A53-FA21-4016-98B6-55D00E6033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0B86-7E6C-4AFD-8E73-A86F46AF44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280D-F73B-419D-9F1A-2E66C38433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1556-D0B1-40B0-8213-D3CDF6E605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A9E7-6367-4D5A-8012-2A62F1C4D6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1F26-2271-41DD-8B28-557746A355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87C9-3F7E-4F03-B292-1335951917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CE62-87C5-4882-AB66-F8FBE46B53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E763-328A-4C70-889F-9504585069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206C-2FC1-414E-AB6B-3B4C13880A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5883-E993-48C0-A616-F4BA42AAB6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81D7-A297-4BA2-8389-3DF89CE55D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A690-32B9-48F9-8326-11AB3AD772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8429-0559-4756-8CE2-173F4F086C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A847-8902-431F-8CE5-1B73813A4D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44F0-5CFE-45D7-8325-7720D56D37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3EB6-A2E3-4E25-B1DD-60B7EFBECB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CE5B-F7C6-44E5-A027-4CFE0C4808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81F-8377-42FF-B858-763155D2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EC6-8C49-4FE3-9966-5B6F09F9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943-E3C0-4873-A2F3-7E84B80C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18F-1748-4A13-B91B-69AEB5CE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9E13-5B5C-4998-95B1-F85679B3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F6CE-90A0-4164-A0CD-ED7747E6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68A7-7D5F-429B-8578-E313A9B8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755D-E0AF-46B6-B134-8EFDB9AE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0ED9-6F48-44B8-B00B-D8C719DE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8241-9F47-4353-9EB8-F5C77E44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DF58-17F1-4992-B87A-D2239AC7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48F2-8027-4B6E-AC9D-B5925D3F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B14D-A17D-4FC0-AEAD-3027596B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CD02-4398-4212-BAFA-98C647D4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CDF9-E86F-4BAC-A3E3-72775E20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2C56-EF52-481A-B035-1AA28E8C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F16A-757C-4570-8465-F43CF35F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35D86-1917-4FB0-AAD9-8AD384E8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56036-F03E-4B9D-85DD-A6AEACB3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06C35-D482-477F-896B-B75E4A44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E3B21-1D63-4AEA-8D13-AB5A4FCD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8B2DD-2C54-4E5D-874C-8B63EAF3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5AE-20C0-455B-8824-F0F7B91A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66831-17C5-464F-B623-26F3327D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42398-340D-4308-84D5-855966D4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27BAC-3405-4F48-ADB7-79FCD5E4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68EE8-1326-4201-8976-65412F38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8841A-0526-40D6-93EB-267CE549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ACFCD-94E4-41F9-BF97-3BA74DEE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B901A-08A2-4AF5-A302-83C32E47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F473B6-A6EE-4D3B-8075-42884242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4B13BE-4D80-4DC2-8D2A-99080AF0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C389AA-6C83-4BDD-A79E-FFC5D2DF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0BAC-B3DE-4307-9E7A-E2DDC196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5C5499-F97D-4769-AAA5-FCC96F41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7F3631-2611-4FF6-912E-83B85F1D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C3D047-2752-4226-992B-FFC8CA09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B443FE-A8DF-4256-8717-04EFFB5B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FE78D0-BAA7-4841-A0BD-23AC75CD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341E58-88D6-4CB9-BBF0-E6E9FF32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22BA5B-B83D-4059-BD02-127290C2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805F0C-2FCA-4EE7-8D28-4EE0A047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F8E034-9F53-4324-A2A2-0CFDE046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908BA7-1712-45E7-B06D-FE6603B0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4EA4-9424-47EF-84C4-92225249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9D2A89-A406-4C9A-B194-76EDE00B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8498F1-0939-417A-A0AA-6FFF32B1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5D06E1-ECA4-4A82-B5C1-52B43424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99AC6E-E6C7-4AF7-9487-9C8583F5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D5A133-4200-437A-B678-6BB585A3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EB0E50-F8BC-4EBC-95B7-2403A5EE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11D562-155D-401B-9C84-64694690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558722-56EC-4EBB-BD2F-48C92AD3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C14D77-8033-4D80-8D7A-D0970247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6360E-AAC7-46D3-A52A-AE2BB1C5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D5D-68F4-4B9A-A38C-D6BD9FAA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48C73-A1B2-4DF4-BFCD-8315DCB8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7A2E6-2CD4-463D-9536-E2C2086F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D309A-3866-47B0-B422-F4812E16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B681A-EB55-4DD2-BAE9-A7300702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7F0BB-EFE2-4BCD-89E5-5F8B4DBE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A65AA-935D-4C59-87E1-18D8F0C2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9F237-6574-4A13-B418-67BD549B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FE344-0048-4D19-9B8F-7D7990AE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57B09-92C6-4E04-AAD0-742EACDA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FB6AE-7116-4717-AB7C-544F89A8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2321-8CA3-42EE-9CE9-45945C41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3087B-67D0-4B79-8B10-10E6326A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0DA8C-11B1-4F15-A6F5-32AD6990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EB3EB-F27D-4168-8E2C-9742A544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FE0E93-C011-448E-B480-316ABF8E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091805-07D8-44F3-B0F2-B730BD2A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6C0F6F-A77D-474A-A001-63AB73A2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BFA013-6C7B-4A35-9B47-40AFCF3C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6BE546-8DAB-4865-9F54-FC884684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5AA6D-A70D-4825-8F6A-FF3F3143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377286-6073-4F05-85EE-A0EBA8BE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A6F-F3EA-48D5-B2E9-A3469696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179F35-B234-4786-97E4-81DB5945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440FC2-B3AE-40C5-A0FE-44CAD74F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F3F33A-B178-42ED-AD0F-D4B4DE72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20AC07-633F-48D9-B890-DDF7662C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E6D74B-ECDB-4F7B-A10E-E553905D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115B3-E13A-4179-8BAC-DB759DA5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D06A2-344A-4620-A346-5FCBDAB8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4C358-6700-44BF-8D5F-256CA255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9C4A9-2520-4377-9CA7-631DE4DB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A58B3-BA78-42F7-872E-B0A3F73A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E56-F2D1-4EA1-AC36-1C8B20E1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7BB24-8B14-41E0-BA77-EEB217AC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69FE1-7782-43A1-A5C5-FA0B0BAB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37829-4556-4D66-9187-50B45F25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9D61C-2035-4AD7-B418-508BB1DE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059A4-4B9E-4ABD-BD16-68D074CB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6FD64-52D8-4DD7-826B-7CEEF4CF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02E38-904F-49A1-86ED-DE964D9F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500C-25D2-4B12-A87E-0BC91B0DD4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D540-4080-4DB1-A5AE-D02E2F86BD37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037D-D8A6-4C67-B3A3-A749261F75AC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49B7-BC98-4AEE-8B4E-A6C560B041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B3C6-145A-427E-933F-9A60CF93C7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BDCA-BF87-4F33-9A2E-CA8751666750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C82B-BAD0-4370-A681-1DEA3AAB4B56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6B95-5D85-4CA7-BD09-96527373473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rançais 3 - Introduct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w Cen MT"/>
              </a:rPr>
              <a:t>Comment est-il? Comment est-elle?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" descr="200px-WillFerrell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45561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ill Farrell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ady Gaga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7" name="Picture 1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immy Fallon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9" name="Picture 1" descr=""/>
          <p:cNvPicPr/>
          <p:nvPr/>
        </p:nvPicPr>
        <p:blipFill>
          <a:blip r:embed="rId1"/>
          <a:stretch/>
        </p:blipFill>
        <p:spPr>
          <a:xfrm>
            <a:off x="1270080" y="1295280"/>
            <a:ext cx="6350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arack Obama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05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5000" y="-360"/>
            <a:ext cx="889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im Kardashian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514600" y="1028880"/>
            <a:ext cx="38862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ustin Timberlake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5" name="Picture 1" descr=""/>
          <p:cNvPicPr/>
          <p:nvPr/>
        </p:nvPicPr>
        <p:blipFill>
          <a:blip r:embed="rId1"/>
          <a:stretch/>
        </p:blipFill>
        <p:spPr>
          <a:xfrm>
            <a:off x="2438280" y="1473120"/>
            <a:ext cx="381024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riana Grande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7" name="Picture 1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om Brady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9" name="Picture 1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19112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rtman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1" name="Picture 5" descr="cartman"/>
          <p:cNvPicPr/>
          <p:nvPr/>
        </p:nvPicPr>
        <p:blipFill>
          <a:blip r:embed="rId1"/>
          <a:stretch/>
        </p:blipFill>
        <p:spPr>
          <a:xfrm>
            <a:off x="2133720" y="1981080"/>
            <a:ext cx="50292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évisons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es-tu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14400" y="57146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AVOIR + # ANS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7" descr="nerd"/>
          <p:cNvPicPr/>
          <p:nvPr/>
        </p:nvPicPr>
        <p:blipFill>
          <a:blip r:embed="rId1"/>
          <a:stretch/>
        </p:blipFill>
        <p:spPr>
          <a:xfrm>
            <a:off x="2536920" y="1752480"/>
            <a:ext cx="4140000" cy="510552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8"/>
          <p:cNvSpPr/>
          <p:nvPr/>
        </p:nvSpPr>
        <p:spPr>
          <a:xfrm>
            <a:off x="5867280" y="1447920"/>
            <a:ext cx="2971800" cy="1523880"/>
          </a:xfrm>
          <a:prstGeom prst="wedgeRoundRectCallout">
            <a:avLst>
              <a:gd name="adj1" fmla="val -65759"/>
              <a:gd name="adj2" fmla="val 175208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Bonjou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18 an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914400" y="579132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#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"/>
          <p:cNvSpPr/>
          <p:nvPr/>
        </p:nvSpPr>
        <p:spPr>
          <a:xfrm>
            <a:off x="228600" y="1676520"/>
            <a:ext cx="3352680" cy="144756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on â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5" descr="200px-WillFerrell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455616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ill Farrell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ady Gaga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6" name="Picture 1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immy Fallon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tretch/>
        </p:blipFill>
        <p:spPr>
          <a:xfrm>
            <a:off x="1346040" y="1295280"/>
            <a:ext cx="6350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arack Obama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05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5000" y="-360"/>
            <a:ext cx="889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im Kardashian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14600" y="1028880"/>
            <a:ext cx="38862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ustin Timberlake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4" name="Picture 1" descr=""/>
          <p:cNvPicPr/>
          <p:nvPr/>
        </p:nvPicPr>
        <p:blipFill>
          <a:blip r:embed="rId1"/>
          <a:stretch/>
        </p:blipFill>
        <p:spPr>
          <a:xfrm>
            <a:off x="2438280" y="1473120"/>
            <a:ext cx="381024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riana Grande, comment est-ell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6" name="Picture 1" descr=""/>
          <p:cNvPicPr/>
          <p:nvPr/>
        </p:nvPicPr>
        <p:blipFill>
          <a:blip r:embed="rId1"/>
          <a:stretch/>
        </p:blipFill>
        <p:spPr>
          <a:xfrm>
            <a:off x="2362320" y="1320840"/>
            <a:ext cx="38098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om Brady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8" name="Picture 1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03884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rtman, comment est-il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50" name="Picture 5" descr="cartman"/>
          <p:cNvPicPr/>
          <p:nvPr/>
        </p:nvPicPr>
        <p:blipFill>
          <a:blip r:embed="rId1"/>
          <a:stretch/>
        </p:blipFill>
        <p:spPr>
          <a:xfrm>
            <a:off x="2133720" y="1981080"/>
            <a:ext cx="50292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es-tu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4400" y="57146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NOU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7" descr="gm20--siamese-cat"/>
          <p:cNvPicPr/>
          <p:nvPr/>
        </p:nvPicPr>
        <p:blipFill>
          <a:blip r:embed="rId1"/>
          <a:stretch/>
        </p:blipFill>
        <p:spPr>
          <a:xfrm>
            <a:off x="2413080" y="1905120"/>
            <a:ext cx="4673520" cy="471492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0" y="2133720"/>
            <a:ext cx="2590920" cy="2743200"/>
          </a:xfrm>
          <a:prstGeom prst="wedgeRoundRectCallout">
            <a:avLst>
              <a:gd name="adj1" fmla="val 75120"/>
              <a:gd name="adj2" fmla="val 85648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yeux bleus. Miaou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914400" y="579132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yeux 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__________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5486400" y="762120"/>
            <a:ext cx="3352680" cy="144756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7" descr="shorthair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êtes-vou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cheveux _________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6567480" y="3124080"/>
            <a:ext cx="2590920" cy="2057400"/>
          </a:xfrm>
          <a:prstGeom prst="wedgeRoundRectCallout">
            <a:avLst>
              <a:gd name="adj1" fmla="val -98351"/>
              <a:gd name="adj2" fmla="val 62226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cheveux cou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562720" y="304920"/>
            <a:ext cx="3352680" cy="144756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7" descr="the_happy_carpenters_2nd_cousin"/>
          <p:cNvPicPr/>
          <p:nvPr/>
        </p:nvPicPr>
        <p:blipFill>
          <a:blip r:embed="rId1"/>
          <a:stretch/>
        </p:blipFill>
        <p:spPr>
          <a:xfrm>
            <a:off x="3048120" y="1676520"/>
            <a:ext cx="3443040" cy="51814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es-tu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cheveux _________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304920" y="1752480"/>
            <a:ext cx="2590560" cy="2057400"/>
          </a:xfrm>
          <a:prstGeom prst="wedgeRoundRectCallout">
            <a:avLst>
              <a:gd name="adj1" fmla="val 100120"/>
              <a:gd name="adj2" fmla="val 109569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cheveux long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5486400" y="228600"/>
            <a:ext cx="3352680" cy="14479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7" descr="43006056_913807e81d"/>
          <p:cNvPicPr/>
          <p:nvPr/>
        </p:nvPicPr>
        <p:blipFill>
          <a:blip r:embed="rId1"/>
          <a:stretch/>
        </p:blipFill>
        <p:spPr>
          <a:xfrm>
            <a:off x="1371600" y="1712880"/>
            <a:ext cx="7315200" cy="49165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es-tu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cheveux _________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6095880" y="1752480"/>
            <a:ext cx="2590920" cy="2057400"/>
          </a:xfrm>
          <a:prstGeom prst="wedgeRoundRectCallout">
            <a:avLst>
              <a:gd name="adj1" fmla="val -79287"/>
              <a:gd name="adj2" fmla="val 96324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cheveux roux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5486400" y="152280"/>
            <a:ext cx="3352680" cy="14479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7" descr="yao_ming"/>
          <p:cNvPicPr/>
          <p:nvPr/>
        </p:nvPicPr>
        <p:blipFill>
          <a:blip r:embed="rId1"/>
          <a:stretch/>
        </p:blipFill>
        <p:spPr>
          <a:xfrm>
            <a:off x="2286000" y="1828800"/>
            <a:ext cx="4459320" cy="78487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Comment êtes-vou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ÊTRE + ADJECTIF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AutoShape 5"/>
          <p:cNvSpPr/>
          <p:nvPr/>
        </p:nvSpPr>
        <p:spPr>
          <a:xfrm>
            <a:off x="6324480" y="4191120"/>
            <a:ext cx="2590920" cy="1523880"/>
          </a:xfrm>
          <a:prstGeom prst="wedgeRoundRectCallout">
            <a:avLst>
              <a:gd name="adj1" fmla="val -75490"/>
              <a:gd name="adj2" fmla="val -146773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e suis gran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04920" y="1828800"/>
            <a:ext cx="2590560" cy="1523880"/>
          </a:xfrm>
          <a:prstGeom prst="wedgeRoundRectCallout">
            <a:avLst>
              <a:gd name="adj1" fmla="val 49254"/>
              <a:gd name="adj2" fmla="val 104606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e suis peti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5486400" y="380880"/>
            <a:ext cx="3352680" cy="14479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53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évisons! – Le verbe </a:t>
            </a:r>
            <a:r>
              <a:rPr b="0" i="1" lang="en-US" sz="4400" spc="-1" strike="noStrike">
                <a:solidFill>
                  <a:srgbClr val="775f55"/>
                </a:solidFill>
                <a:latin typeface="Tw Cen MT"/>
              </a:rPr>
              <a:t>AVOIR (to have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TextBox 1"/>
          <p:cNvSpPr/>
          <p:nvPr/>
        </p:nvSpPr>
        <p:spPr>
          <a:xfrm>
            <a:off x="762120" y="19810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J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4"/>
          <p:cNvSpPr/>
          <p:nvPr/>
        </p:nvSpPr>
        <p:spPr>
          <a:xfrm>
            <a:off x="762120" y="26449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t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Box 5"/>
          <p:cNvSpPr/>
          <p:nvPr/>
        </p:nvSpPr>
        <p:spPr>
          <a:xfrm>
            <a:off x="762120" y="327672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Box 6"/>
          <p:cNvSpPr/>
          <p:nvPr/>
        </p:nvSpPr>
        <p:spPr>
          <a:xfrm>
            <a:off x="762120" y="3940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el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7"/>
          <p:cNvSpPr/>
          <p:nvPr/>
        </p:nvSpPr>
        <p:spPr>
          <a:xfrm>
            <a:off x="762120" y="46483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Box 8"/>
          <p:cNvSpPr/>
          <p:nvPr/>
        </p:nvSpPr>
        <p:spPr>
          <a:xfrm>
            <a:off x="3886200" y="19810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no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9"/>
          <p:cNvSpPr/>
          <p:nvPr/>
        </p:nvSpPr>
        <p:spPr>
          <a:xfrm>
            <a:off x="3886200" y="2644920"/>
            <a:ext cx="146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vo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Box 10"/>
          <p:cNvSpPr/>
          <p:nvPr/>
        </p:nvSpPr>
        <p:spPr>
          <a:xfrm>
            <a:off x="3886200" y="3276720"/>
            <a:ext cx="10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Box 11"/>
          <p:cNvSpPr/>
          <p:nvPr/>
        </p:nvSpPr>
        <p:spPr>
          <a:xfrm>
            <a:off x="3886200" y="3940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el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Box 12"/>
          <p:cNvSpPr/>
          <p:nvPr/>
        </p:nvSpPr>
        <p:spPr>
          <a:xfrm>
            <a:off x="1066680" y="1981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1219320" y="26449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14"/>
          <p:cNvSpPr/>
          <p:nvPr/>
        </p:nvSpPr>
        <p:spPr>
          <a:xfrm>
            <a:off x="1143000" y="3279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15"/>
          <p:cNvSpPr/>
          <p:nvPr/>
        </p:nvSpPr>
        <p:spPr>
          <a:xfrm>
            <a:off x="1600200" y="3940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Box 16"/>
          <p:cNvSpPr/>
          <p:nvPr/>
        </p:nvSpPr>
        <p:spPr>
          <a:xfrm>
            <a:off x="1447920" y="4651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Box 17"/>
          <p:cNvSpPr/>
          <p:nvPr/>
        </p:nvSpPr>
        <p:spPr>
          <a:xfrm>
            <a:off x="4876920" y="1981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v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Box 18"/>
          <p:cNvSpPr/>
          <p:nvPr/>
        </p:nvSpPr>
        <p:spPr>
          <a:xfrm>
            <a:off x="4876920" y="26449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ave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Box 19"/>
          <p:cNvSpPr/>
          <p:nvPr/>
        </p:nvSpPr>
        <p:spPr>
          <a:xfrm>
            <a:off x="4419720" y="3279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o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20"/>
          <p:cNvSpPr/>
          <p:nvPr/>
        </p:nvSpPr>
        <p:spPr>
          <a:xfrm>
            <a:off x="4876920" y="3940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o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21"/>
          <p:cNvSpPr/>
          <p:nvPr/>
        </p:nvSpPr>
        <p:spPr>
          <a:xfrm>
            <a:off x="685800" y="53341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w Cen MT"/>
              </a:rPr>
              <a:t>C’est le verbe </a:t>
            </a:r>
            <a:r>
              <a:rPr b="0" i="1" lang="fr-FR" sz="4000" spc="-1" strike="noStrike">
                <a:solidFill>
                  <a:srgbClr val="ff0000"/>
                </a:solidFill>
                <a:latin typeface="Tw Cen MT"/>
              </a:rPr>
              <a:t>h</a:t>
            </a:r>
            <a:r>
              <a:rPr b="0" i="1" lang="fr-FR" sz="4000" spc="-1" strike="noStrike">
                <a:solidFill>
                  <a:srgbClr val="660066"/>
                </a:solidFill>
                <a:latin typeface="Tw Cen MT"/>
              </a:rPr>
              <a:t>av</a:t>
            </a:r>
            <a:r>
              <a:rPr b="0" i="1" lang="fr-FR" sz="4000" spc="-1" strike="noStrike">
                <a:solidFill>
                  <a:srgbClr val="0000ff"/>
                </a:solidFill>
                <a:latin typeface="Tw Cen MT"/>
              </a:rPr>
              <a:t>oir</a:t>
            </a:r>
            <a:r>
              <a:rPr b="0" i="1" lang="fr-FR" sz="4000" spc="-1" strike="noStrike">
                <a:solidFill>
                  <a:srgbClr val="000000"/>
                </a:solidFill>
                <a:latin typeface="Tw Cen MT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stru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vaillez avec la personne à côté de vou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éez des descriptions des personnes suivant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ous pouvez mentioner des aspects de leur portrait physique et leur portrait mora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ous comprenez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ons-y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4-09-16T10:52:39Z</dcterms:modified>
  <cp:revision>84</cp:revision>
  <dc:subject/>
  <dc:title>Allez, viens! – Level 2</dc:title>
</cp:coreProperties>
</file>